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F64-72C1-4C39-95AB-7522BE91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3291840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7280"/>
            <a:ext cx="3291840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E27-B6AE-4C87-8FB9-810D791D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18A-4E5E-421D-BDC1-6CEECF14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44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44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728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728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7280"/>
            <a:ext cx="1059948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3FF-A6CF-436F-930A-D0809ECC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440"/>
            <a:ext cx="32918400" cy="181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68C-455E-417D-B0B5-07C91447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3291840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B9C-81DE-4D23-8C23-EFD7C84B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52A-B0DC-492D-AB24-12AF0F3E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DE3-4176-45FA-9BFE-D3820F44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290-D8F3-48C1-ABEF-2A15DF5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96E-D626-48A8-AEAC-004516A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728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72F-A50A-48D5-BA61-4B43403A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440"/>
            <a:ext cx="1606392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7280"/>
            <a:ext cx="32918400" cy="86360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6160"/>
                <a:tab algn="l" pos="7311960"/>
                <a:tab algn="l" pos="1096812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93E-9BAE-471B-A4B0-48FA2CB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440"/>
            <a:ext cx="32918400" cy="181054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0160" indent="-137016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2970360" indent="-114156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70560" indent="-91296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399360" indent="-91296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8160" indent="-91296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8160" indent="-91296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8160" indent="-91296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6160"/>
                <a:tab algn="l" pos="7311960"/>
                <a:tab algn="l" pos="1096812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5427160"/>
            <a:ext cx="8534520" cy="14601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5427160"/>
            <a:ext cx="11582640" cy="14601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5427160"/>
            <a:ext cx="8534520" cy="14601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fld id="{0B7C51F7-2207-4B7B-84F5-6585A143E331}" type="slidenum">
              <a:rPr b="0" lang="en-US" sz="48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-7920" y="22320"/>
            <a:ext cx="36583920" cy="5715000"/>
          </a:xfrm>
          <a:prstGeom prst="rect">
            <a:avLst/>
          </a:prstGeom>
          <a:solidFill>
            <a:srgbClr val="4f26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noAutofit/>
          </a:bodyPr>
          <a:p>
            <a:pPr algn="ctr"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24684120"/>
            <a:ext cx="3657600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noAutofit/>
          </a:bodyPr>
          <a:p>
            <a:pPr algn="ctr">
              <a:tabLst>
                <a:tab algn="l" pos="0"/>
                <a:tab algn="l" pos="3656160"/>
                <a:tab algn="l" pos="7311960"/>
                <a:tab algn="l" pos="1096812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127400" y="3048120"/>
            <a:ext cx="2806704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Type font is Arial, Size is 44: Names of researcher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Department, Schulich School of Medicine &amp; Dentistry, Western University, London, ON, Cana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413080" y="1015920"/>
            <a:ext cx="317498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Title of Research Poster goes here. Type is Arial Bold 75pt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2183280" y="1009800"/>
            <a:ext cx="3370320" cy="35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SMD_VER_WHITE.eps"/>
          <p:cNvPicPr/>
          <p:nvPr/>
        </p:nvPicPr>
        <p:blipFill>
          <a:blip r:embed="rId2"/>
          <a:stretch/>
        </p:blipFill>
        <p:spPr>
          <a:xfrm>
            <a:off x="998640" y="1015920"/>
            <a:ext cx="38275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57:56Z</dcterms:created>
  <dc:creator>Administrator</dc:creator>
  <dc:description/>
  <dc:language>en-US</dc:language>
  <cp:lastModifiedBy>Administrator</cp:lastModifiedBy>
  <dcterms:modified xsi:type="dcterms:W3CDTF">2013-10-31T19:09:51Z</dcterms:modified>
  <cp:revision>37</cp:revision>
  <dc:subject/>
  <dc:title>PowerPoint Presentation</dc:title>
</cp:coreProperties>
</file>